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8750C6-5317-441B-BAA9-3BB8DE5FF3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D1A840-BEC1-4F2C-AEA4-F1D992A8DD8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06338E-7B0D-403F-85BC-E8C0DC40D9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44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072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44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072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CD9F5D-BA6B-43D6-83EC-3E9A7A488D7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E8193E-97E3-49CA-8C14-A92F9869B53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DB64EC-3575-421D-8C25-A7BABBFA6D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E325CA-4AFF-4606-90A8-DDA4FBC834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D3E063-087D-4BFB-B9E3-81F11937BAA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09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A26F4D-41E8-4A8D-9F5B-5330ABBF03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51F41F-0FF4-4DDF-8711-3122B4084A8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F18319-9AAB-4CE7-8867-A3A42CA701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7F46D2-216A-46F5-9469-B7F5EC5722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00B71CE-5857-4F31-8752-E9336A4F02D0}" type="slidenum">
              <a:rPr b="0" lang="en-GB" sz="2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.png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.png"/><Relationship Id="rId1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t-EE" sz="4000" spc="-1" strike="noStrike">
                <a:solidFill>
                  <a:srgbClr val="000000"/>
                </a:solidFill>
                <a:latin typeface="Times New Roman"/>
              </a:rPr>
              <a:t>Rakendusliku loogika süvakursu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2. Lausearvutuse semantika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mantikareeglid ütlevad, kuidas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amvalemite tõeväärtuste põhjal määrata kogu valemi tõeväärtust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lgu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ja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lausearvutuse valemi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Droid Sans Fallback"/>
              </a:rPr>
              <a:t>Iga lausemuutuja väärtuseks on kas tõene (T) või väär (V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AutoNum type="arabicPeriod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i="1" lang="et-EE" sz="2800" spc="-1" strike="noStrike">
                <a:solidFill>
                  <a:srgbClr val="000000"/>
                </a:solidFill>
                <a:latin typeface="Times New Roman"/>
                <a:ea typeface="Droid Sans Fallback"/>
              </a:rPr>
              <a:t>A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Droid Sans Fallback"/>
              </a:rPr>
              <a:t> on tõene parajasti siis, kui </a:t>
            </a:r>
            <a:r>
              <a:rPr b="0" i="1" lang="et-EE" sz="2800" spc="-1" strike="noStrike">
                <a:solidFill>
                  <a:srgbClr val="000000"/>
                </a:solidFill>
                <a:latin typeface="Times New Roman"/>
                <a:ea typeface="Droid Sans Fallback"/>
              </a:rPr>
              <a:t>A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Droid Sans Fallback"/>
              </a:rPr>
              <a:t> on vää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i="1" lang="et-EE" sz="2800" spc="-1" strike="noStrike">
                <a:solidFill>
                  <a:srgbClr val="000000"/>
                </a:solidFill>
                <a:latin typeface="Times New Roman"/>
                <a:ea typeface="Droid Sans Fallback"/>
              </a:rPr>
              <a:t>A</a:t>
            </a:r>
            <a:r>
              <a:rPr b="0" lang="et-EE" sz="2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i="1" lang="et-EE" sz="2800" spc="-1" strike="noStrike">
                <a:solidFill>
                  <a:srgbClr val="000000"/>
                </a:solidFill>
                <a:latin typeface="Times New Roman"/>
                <a:ea typeface="Droid Sans Fallback"/>
              </a:rPr>
              <a:t>B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Droid Sans Fallback"/>
              </a:rPr>
              <a:t> on tõene parajasti siis, kui </a:t>
            </a:r>
            <a:r>
              <a:rPr b="0" i="1" lang="et-EE" sz="2800" spc="-1" strike="noStrike">
                <a:solidFill>
                  <a:srgbClr val="000000"/>
                </a:solidFill>
                <a:latin typeface="Times New Roman"/>
                <a:ea typeface="Droid Sans Fallback"/>
              </a:rPr>
              <a:t>A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Droid Sans Fallback"/>
              </a:rPr>
              <a:t> ja </a:t>
            </a:r>
            <a:r>
              <a:rPr b="0" i="1" lang="et-EE" sz="2800" spc="-1" strike="noStrike">
                <a:solidFill>
                  <a:srgbClr val="000000"/>
                </a:solidFill>
                <a:latin typeface="Times New Roman"/>
                <a:ea typeface="Droid Sans Fallback"/>
              </a:rPr>
              <a:t>B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Droid Sans Fallback"/>
              </a:rPr>
              <a:t> mõlemad on tõesed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Droid Sans Fallback"/>
              </a:rPr>
              <a:t>	</a:t>
            </a:r>
            <a:r>
              <a:rPr b="0" i="1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t-EE" sz="28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i="1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n tõene parajasti siis, kui vähemalt üks valemitest </a:t>
            </a:r>
            <a:r>
              <a:rPr b="0" i="1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ja </a:t>
            </a:r>
            <a:r>
              <a:rPr b="0" i="1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n tõene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Droid Sans Fallback"/>
              </a:rPr>
              <a:t>	</a:t>
            </a:r>
            <a:r>
              <a:rPr b="0" i="1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t-EE" sz="2800" spc="-1" strike="noStrike">
                <a:solidFill>
                  <a:srgbClr val="000000"/>
                </a:solidFill>
                <a:latin typeface="Symbol"/>
                <a:ea typeface="Symbol"/>
              </a:rPr>
              <a:t></a:t>
            </a:r>
            <a:r>
              <a:rPr b="0" i="1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n tõene parajasti siis, kui </a:t>
            </a:r>
            <a:r>
              <a:rPr b="0" i="1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n väär või </a:t>
            </a:r>
            <a:r>
              <a:rPr b="0" i="1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õene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Droid Sans Fallback"/>
              </a:rPr>
              <a:t>	</a:t>
            </a:r>
            <a:r>
              <a:rPr b="0" i="1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t-EE" sz="2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i="1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n tõene parajasti siis, kui </a:t>
            </a:r>
            <a:r>
              <a:rPr b="0" i="1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ja </a:t>
            </a:r>
            <a:r>
              <a:rPr b="0" i="1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õeväärtused on sam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lgu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ikseeritud lausesümbolite tähestik (signatuur)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atsiooniks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imetatakse suvalist funktsiooni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{0,1}. Lausearvutuse valemite väärtustus on aga funktsioon, mis annab kõigile valemitele väärtuse sõltuvalt konkreetsest interpretatsioonis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ui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äärtuseks interpretatsioonis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n 1, siis öeldakse, et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n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s tõene (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htestab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kehtib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s) ning seda tähistatakse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stupidisel juhul öeldakse, et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n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s vää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graphicFrame>
        <p:nvGraphicFramePr>
          <p:cNvPr id="59" name=""/>
          <p:cNvGraphicFramePr/>
          <p:nvPr/>
        </p:nvGraphicFramePr>
        <p:xfrm>
          <a:off x="7086600" y="2438280"/>
          <a:ext cx="304920" cy="304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86600" y="2438280"/>
                    <a:ext cx="30492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3. Tõeväärtustabelid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õeväärtustabel sisaldab lausearvutuse valemi kõikvõimalikke väärtustusi. Kui valemis on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uutujat, siis tabel koosneb 2</a:t>
            </a:r>
            <a:r>
              <a:rPr b="0" i="1" lang="et-EE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ast, et võimaldada arvutada valemi väärtust igasuguse muutujate väärtuste kombinatsiooni jaoks. Pikemate valemite puhul on mõistlik arvutada esmalt väiksemate alamvalemite tõeväärtused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4. Lausearvutuse valemite liigitus: 4 variant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n </a:t>
            </a:r>
            <a:r>
              <a:rPr b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üldkehtiv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utoloogiline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ogiliselt tõene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alem, kui see on tõene kõigil lausemuutujate väärtustustel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n </a:t>
            </a:r>
            <a:r>
              <a:rPr b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htestamatu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stuoluline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ogiliselt väär valem, kui see on väär kõigil lausemuutujate väärtustustel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n </a:t>
            </a:r>
            <a:r>
              <a:rPr b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htestatav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kui see on tõene mingi väärtustuse korral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n </a:t>
            </a:r>
            <a:r>
              <a:rPr b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ääratav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kui see mingi väärtustuse puhul ei ole tõen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n tautoloogia parajasti siis, kui 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n vastuolu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n vastuolu parajasti siis, kui 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n tautoloogia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n kehtestatav parajasti siis, kui 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n vääratav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n vääratav parajasti siis, kui 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n kehtestatav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lemite hulga </a:t>
            </a:r>
            <a:r>
              <a:rPr b="0" i="1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kohta öeldakse, et see tingib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lemi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n </a:t>
            </a:r>
            <a:r>
              <a:rPr b="0" i="1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loogiline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äreldus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ähistus </a:t>
            </a:r>
            <a:r>
              <a:rPr b="0" i="1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‌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kui iga interpretatsiooni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korral sellest, et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‌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järeldub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‌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t-EE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…,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i="1" lang="et-EE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} ‌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arajasti siis, 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ku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‌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t-EE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… 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i="1" lang="et-EE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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‌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arajasti siis, kui 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‌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ehk loogiline järelduvus tühjast valemite hulgast 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a mis loogiline tõesus)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6553080" y="2209680"/>
          <a:ext cx="304920" cy="304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53080" y="2209680"/>
                    <a:ext cx="30492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0" name=""/>
          <p:cNvGraphicFramePr/>
          <p:nvPr/>
        </p:nvGraphicFramePr>
        <p:xfrm>
          <a:off x="1371600" y="1752480"/>
          <a:ext cx="304920" cy="304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1600" y="1752480"/>
                    <a:ext cx="30492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" name=""/>
          <p:cNvGraphicFramePr/>
          <p:nvPr/>
        </p:nvGraphicFramePr>
        <p:xfrm>
          <a:off x="2895480" y="2209680"/>
          <a:ext cx="304920" cy="3049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895480" y="2209680"/>
                    <a:ext cx="30492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1219320" y="3962520"/>
          <a:ext cx="304560" cy="304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219320" y="3962520"/>
                    <a:ext cx="304560" cy="30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4724280" y="3962520"/>
          <a:ext cx="304920" cy="3045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724280" y="3962520"/>
                    <a:ext cx="304920" cy="30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8" name=""/>
          <p:cNvGraphicFramePr/>
          <p:nvPr/>
        </p:nvGraphicFramePr>
        <p:xfrm>
          <a:off x="2971800" y="2819520"/>
          <a:ext cx="304920" cy="3045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971800" y="2819520"/>
                    <a:ext cx="304920" cy="30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" name=""/>
          <p:cNvGraphicFramePr/>
          <p:nvPr/>
        </p:nvGraphicFramePr>
        <p:xfrm>
          <a:off x="1143000" y="3352680"/>
          <a:ext cx="304920" cy="3049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143000" y="3352680"/>
                    <a:ext cx="30492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lemid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n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ogiliselt ekvivalentsed 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tähistus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kui iga interpretatsioon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i="1" lang="et-EE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korral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‌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arajasti siis, kui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‌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arajasti siis, kui ‌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ehk loogiline ekvivalents on sama, mis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kvivalentsi loogiline tõesus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2590920" y="1828800"/>
          <a:ext cx="304560" cy="304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828800"/>
                    <a:ext cx="30456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" name=""/>
          <p:cNvGraphicFramePr/>
          <p:nvPr/>
        </p:nvGraphicFramePr>
        <p:xfrm>
          <a:off x="6324480" y="1828800"/>
          <a:ext cx="304920" cy="304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324480" y="1828800"/>
                    <a:ext cx="30492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7" name=""/>
          <p:cNvGraphicFramePr/>
          <p:nvPr/>
        </p:nvGraphicFramePr>
        <p:xfrm>
          <a:off x="4800600" y="3048120"/>
          <a:ext cx="304920" cy="304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800600" y="3048120"/>
                    <a:ext cx="304920" cy="30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 algn="ctr">
              <a:spcBef>
                <a:spcPts val="10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4000" spc="-1" strike="noStrike">
                <a:solidFill>
                  <a:srgbClr val="3333cc"/>
                </a:solidFill>
                <a:latin typeface="Times New Roman"/>
              </a:rPr>
              <a:t>Teema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10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usearvutuse ja predikaatarvutuse soendu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omaattõestamine lausearvutuses ja DPL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omaatõestamine predikaatarvutuses ja resolutsioonimeeto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õrdusega predikaatarvutu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lutsioonistrateegiad ja optimeeringu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rukamate probleemide formaliseerimin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ksonoomiate ja ontoloogiate erimeetodi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alsed tõestajad ja nende kasutamin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ogiline ekvivalents on ekvivalentsiseos: ta on refleksiivne (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ümmeetriline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kui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siis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ing transitiivne (kui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ja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siis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lulisi tautoloogiaid lausearvutus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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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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lulisi tautoloogiaid lausearvutus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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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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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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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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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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kvivalentsete asendamise omadu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ui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siis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 </a:t>
            </a:r>
            <a:r>
              <a:rPr b="0" lang="et-EE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antsieerimise omadus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ui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‌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siis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1828800" y="5410080"/>
          <a:ext cx="304920" cy="304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5410080"/>
                    <a:ext cx="30492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. Normaalkujud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teraal 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õi 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kus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n lausesümbo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ementaardisjunktsioon 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t-EE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i="1" lang="et-EE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, kus {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t-EE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…,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i="1" lang="et-EE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} on lõplik hulk literaa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ementaarkonjunktsioon 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t-EE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i="1" lang="et-EE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, kus {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t-EE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…,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i="1" lang="et-EE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} on lõplik hulk literaal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njunktiivne normaalkuju 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t-EE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…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i="1" lang="et-EE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, kus {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t-EE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…,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i="1" lang="et-EE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 on lõplik hulk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ementaardisjunktsioon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junktiivne normaalkuju 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t-EE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…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i="1" lang="et-EE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kus {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t-EE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…,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i="1" lang="et-EE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 on lõplik hulk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ementaarkonjunktsioon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lemi teisendamine konjunktiivsele või disjunktiivsele normaalkujule (annab esialgse valemiga loogiliselt ekvivalentse valemi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1" lang="et-EE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ikatsioonid ära, kasutades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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1" lang="et-EE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itused sisse ning kahekordsed eitused ära, kasutades 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et-EE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et-EE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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spcBef>
                <a:spcPts val="799"/>
              </a:spcBef>
              <a:tabLst>
                <a:tab algn="l" pos="0"/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1" lang="et-EE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junktsioonid või konjunktsioonid sisse, kasutades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j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õ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j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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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adud kuju võib veel optimeerida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kasutad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sorptsioone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et-EE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ja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et-EE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älistatud kolmanda seadust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stuolu seadust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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ing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ühikute seadusi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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.. ja veel mitmeid taolisi reeglei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uidas tuvastada lausearvutuse valemi tautoloogilisus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aks põhimõttelist varianti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mantika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hk tõeväärtuste tabeli abil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99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astmes N rida, kus N on muutujate arv valemi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õestusteooria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hk mõne järeldussüsteemi abil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99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lberti süsteem, Gentzeni naturaal- või sekventsiaalarvutus, resolutsioonimeetod, Davis-Putnam v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399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399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399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mantika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hk tõeväärtustabeli varia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ne tähele, e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lemi F mudel on kõigi muutujate väärtustuste-komplektide hulk, mille puhul valem F on tõene. Sisuliselt tõeväärtustabeli read, kus valem annab väärtuseks tõe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|= B tähendab, et kõigi mudelite (ridade) korral, kus A on tõene, on ka B tõe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|= B siis ja ainult siis, kui |= A -&gt;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lem F on tautoloogiline siis ja ainult siis, kui valem –F on vastuoluli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Times New Roman"/>
              </a:rPr>
              <a:t>1. Lausearvut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spcBef>
                <a:spcPts val="799"/>
              </a:spcBef>
              <a:tabLst>
                <a:tab algn="l" pos="0"/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usearvutuse aluseks on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use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õiste (proposition). Arutlus jaotatakse lauseteks, millest igaüks on kas tõene või väär. Lausete omavahelised seosed määravad kogu arutluse kehtivu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BBE6C6F-817C-4B5E-8A7B-C4F2DC263E6D}" type="slidenum">
              <a:rPr b="0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533520"/>
            <a:ext cx="7793280" cy="7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Times New Roman"/>
              </a:rPr>
              <a:t>Näide: tõeväärtustabeli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1143000" y="3200400"/>
          <a:ext cx="6051240" cy="2520720"/>
        </p:xfrm>
        <a:graphic>
          <a:graphicData uri="http://schemas.openxmlformats.org/drawingml/2006/table">
            <a:tbl>
              <a:tblPr/>
              <a:tblGrid>
                <a:gridCol w="576360"/>
                <a:gridCol w="576000"/>
                <a:gridCol w="2305800"/>
                <a:gridCol w="1296000"/>
                <a:gridCol w="1297080"/>
              </a:tblGrid>
              <a:tr h="505080">
                <a:tc>
                  <a:txBody>
                    <a:bodyPr lIns="90000" rIns="90000" tIns="680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80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80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p → (q → p)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80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t-EE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p </a:t>
                      </a:r>
                      <a:r>
                        <a:rPr b="0" lang="et-EE" sz="2400" spc="-1" strike="noStrike">
                          <a:solidFill>
                            <a:srgbClr val="000000"/>
                          </a:solidFill>
                          <a:latin typeface="cmsy10"/>
                          <a:ea typeface="Times New Roman"/>
                        </a:rPr>
                        <a:t>&amp;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t-EE" sz="2400" spc="-1" strike="noStrike">
                          <a:solidFill>
                            <a:srgbClr val="000000"/>
                          </a:solidFill>
                          <a:latin typeface="cmsy10"/>
                          <a:ea typeface="Times New Roman"/>
                        </a:rPr>
                        <a:t>-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80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t-EE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 </a:t>
                      </a:r>
                      <a:r>
                        <a:rPr b="0" lang="et-EE" sz="2400" spc="-1" strike="noStrike">
                          <a:solidFill>
                            <a:srgbClr val="000000"/>
                          </a:solidFill>
                          <a:latin typeface="cmsy10"/>
                          <a:ea typeface="Times New Roman"/>
                        </a:rPr>
                        <a:t>v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t-EE" sz="2400" spc="-1" strike="noStrike">
                          <a:solidFill>
                            <a:srgbClr val="000000"/>
                          </a:solidFill>
                          <a:latin typeface="cmsy10"/>
                          <a:ea typeface="Times New Roman"/>
                        </a:rPr>
                        <a:t>-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3640">
                <a:tc>
                  <a:txBody>
                    <a:bodyPr lIns="90000" rIns="90000" tIns="680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80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80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80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80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3280">
                <a:tc>
                  <a:txBody>
                    <a:bodyPr lIns="90000" rIns="90000" tIns="680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80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80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80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80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3640">
                <a:tc>
                  <a:txBody>
                    <a:bodyPr lIns="90000" rIns="90000" tIns="680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80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80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80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80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5080">
                <a:tc>
                  <a:txBody>
                    <a:bodyPr lIns="90000" rIns="90000" tIns="680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80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80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80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80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5" name=""/>
          <p:cNvSpPr/>
          <p:nvPr/>
        </p:nvSpPr>
        <p:spPr>
          <a:xfrm>
            <a:off x="1066680" y="1600200"/>
            <a:ext cx="77932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Pane tähele, e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(A -&gt;B)  on ekvivalentne (– A v B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õestusteooria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ariant (järeldusmootorid jms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asutame mõnda korrektset ja täielikku järelduste tuletamise/kontrollimise süsteem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|- B tähendab, et valitud järeldussüsteemis saab A-st järeldada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äreldussüsteem on korrektne, kui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kui A |- B, siis A|=B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äreldussüsteem on täielik, ku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kui A|=B, siis A |- B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äide: </a:t>
            </a:r>
            <a:r>
              <a:rPr b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lberti süste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296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li aksioomi (aksioomiskeemi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51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296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aks järeldusreegli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1560" indent="-227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t-E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endamine</a:t>
            </a:r>
            <a:r>
              <a:rPr b="0" lang="et-E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aksioomiskeemide muutujaid võib asendada suvaliste lausearvutuse valemite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1560" indent="-227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t-E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us ponens</a:t>
            </a:r>
            <a:r>
              <a:rPr b="0" lang="et-E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71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t-EE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lang="et-EE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A      A -&gt;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71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</a:t>
            </a:r>
            <a:r>
              <a:rPr b="0" lang="et-E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71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-41292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428840" y="1676520"/>
            <a:ext cx="514440" cy="17136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1395360" y="1981080"/>
            <a:ext cx="1057320" cy="19080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1387440" y="2286000"/>
            <a:ext cx="3238560" cy="2001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4"/>
          <a:stretch/>
        </p:blipFill>
        <p:spPr>
          <a:xfrm>
            <a:off x="1376280" y="2567160"/>
            <a:ext cx="1876680" cy="199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njunktiivne normaalkuju 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NF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lem F on CNF kujul, kui ta on disjunktsioonide konjunktsioon, kus disjunktsiooni elemendid on kas lausemuutujad või eitusega lausemuutujad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ne tähe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1640">
              <a:spcBef>
                <a:spcPts val="4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 -&gt; </a:t>
            </a:r>
            <a:r>
              <a:rPr b="0" lang="et-EE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t-EE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 ekvivalentne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-A v </a:t>
            </a:r>
            <a:r>
              <a:rPr b="0" lang="et-EE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1640">
              <a:spcBef>
                <a:spcPts val="4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 &amp; B &amp; C) -&gt; D </a:t>
            </a:r>
            <a:r>
              <a:rPr b="0" lang="et-EE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n ekvivalentne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A v -B v -C v D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1640">
              <a:spcBef>
                <a:spcPts val="4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 &amp; B &amp; C) -&gt; (D v E)  </a:t>
            </a:r>
            <a:r>
              <a:rPr b="0" lang="et-EE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 ekvivalentne 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A v -B v -C v D</a:t>
            </a:r>
            <a:r>
              <a:rPr b="0" lang="et-EE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 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1640">
              <a:spcBef>
                <a:spcPts val="4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 &amp; B &amp; C) -&gt; (D </a:t>
            </a:r>
            <a:r>
              <a:rPr b="0" lang="et-EE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amp;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)</a:t>
            </a:r>
            <a:r>
              <a:rPr b="0" lang="et-EE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n ekvivalentn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1640">
              <a:spcBef>
                <a:spcPts val="4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et-EE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 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 &amp; B &amp; C) -&gt; D</a:t>
            </a:r>
            <a:r>
              <a:rPr b="0" lang="et-EE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&amp;  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 &amp; B &amp; C) -&gt; E</a:t>
            </a:r>
            <a:r>
              <a:rPr b="0" lang="et-EE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1640">
              <a:spcBef>
                <a:spcPts val="4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äid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– ma olen ta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 – ma saan hea hin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– kui ma olen tark, siis saan hea hin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 – kui ma saan hea hinde, siis olen ta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 – ma olen kas tark või saan hea hin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 – ma olen tark ja saan hea hin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les moodustatakse uusi lauseid sidesõnade abil, lausearvutuses kasutatakse vastavalt lausearvutuse tehtei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njunktsioon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amp;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junktsioon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õ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itus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i, mit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ikatsioon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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ui… siis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kvivalents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is ja ainult siis, 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jasti si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les on tihti ka seoseid, mis ei ole lausearvutuse tehted (näiteks sidesõnad sest, enne kui, jne. …) Tähelepanu tuleb pöörata ka sellele, et kui… siis… ei vasta alati lausearvutuse tehte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1. Lausearvutuse süntak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ähestik – lausesümbolid (proposition symbol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usemuutujate sümbol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ogiliste tehete sümbol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irjavahemärg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usearvutuse valemid on lausete hulk, mis defineeritakse induktiivsel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Droid Sans Fallback"/>
              </a:rPr>
              <a:t>Kõik lausesümbolid on valemid (atomaarvalemid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Droid Sans Fallback"/>
              </a:rPr>
              <a:t>Loogilised konstandid</a:t>
            </a:r>
            <a:r>
              <a:rPr b="0" lang="et-EE" sz="2800" spc="-1" strike="noStrike">
                <a:solidFill>
                  <a:srgbClr val="000000"/>
                </a:solidFill>
                <a:latin typeface="Arial"/>
                <a:ea typeface="Arial"/>
              </a:rPr>
              <a:t> T 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Droid Sans Fallback"/>
              </a:rPr>
              <a:t>(tõene)  ja </a:t>
            </a:r>
            <a:r>
              <a:rPr b="0" lang="et-EE" sz="2800" spc="-1" strike="noStrike">
                <a:solidFill>
                  <a:srgbClr val="000000"/>
                </a:solidFill>
                <a:latin typeface="Symbol"/>
                <a:ea typeface="Symbol"/>
              </a:rPr>
              <a:t>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Droid Sans Fallback"/>
              </a:rPr>
              <a:t> (väär) on valemid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Droid Sans Fallback"/>
              </a:rPr>
              <a:t>Kui </a:t>
            </a:r>
            <a:r>
              <a:rPr b="0" i="1" lang="et-EE" sz="2800" spc="-1" strike="noStrike">
                <a:solidFill>
                  <a:srgbClr val="000000"/>
                </a:solidFill>
                <a:latin typeface="Times New Roman"/>
                <a:ea typeface="Droid Sans Fallback"/>
              </a:rPr>
              <a:t>A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Droid Sans Fallback"/>
              </a:rPr>
              <a:t> on valem, siis on ka </a:t>
            </a:r>
            <a:r>
              <a:rPr b="0" lang="et-EE" sz="28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i="1" lang="et-EE" sz="2800" spc="-1" strike="noStrike">
                <a:solidFill>
                  <a:srgbClr val="000000"/>
                </a:solidFill>
                <a:latin typeface="Times New Roman"/>
                <a:ea typeface="Droid Sans Fallback"/>
              </a:rPr>
              <a:t>A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Droid Sans Fallback"/>
              </a:rPr>
              <a:t> valem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Droid Sans Fallback"/>
              </a:rPr>
              <a:t>Kui </a:t>
            </a:r>
            <a:r>
              <a:rPr b="0" i="1" lang="et-EE" sz="2800" spc="-1" strike="noStrike">
                <a:solidFill>
                  <a:srgbClr val="000000"/>
                </a:solidFill>
                <a:latin typeface="Times New Roman"/>
                <a:ea typeface="Droid Sans Fallback"/>
              </a:rPr>
              <a:t>A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Droid Sans Fallback"/>
              </a:rPr>
              <a:t> ja </a:t>
            </a:r>
            <a:r>
              <a:rPr b="0" i="1" lang="et-EE" sz="2800" spc="-1" strike="noStrike">
                <a:solidFill>
                  <a:srgbClr val="000000"/>
                </a:solidFill>
                <a:latin typeface="Times New Roman"/>
                <a:ea typeface="Droid Sans Fallback"/>
              </a:rPr>
              <a:t>B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Droid Sans Fallback"/>
              </a:rPr>
              <a:t> on valemid, siis (</a:t>
            </a:r>
            <a:r>
              <a:rPr b="0" i="1" lang="et-EE" sz="2800" spc="-1" strike="noStrike">
                <a:solidFill>
                  <a:srgbClr val="000000"/>
                </a:solidFill>
                <a:latin typeface="Times New Roman"/>
                <a:ea typeface="Droid Sans Fallback"/>
              </a:rPr>
              <a:t>A</a:t>
            </a:r>
            <a:r>
              <a:rPr b="0" lang="et-EE" sz="2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i="1" lang="et-EE" sz="2800" spc="-1" strike="noStrike">
                <a:solidFill>
                  <a:srgbClr val="000000"/>
                </a:solidFill>
                <a:latin typeface="Times New Roman"/>
                <a:ea typeface="Droid Sans Fallback"/>
              </a:rPr>
              <a:t>B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Droid Sans Fallback"/>
              </a:rPr>
              <a:t>), (</a:t>
            </a:r>
            <a:r>
              <a:rPr b="0" i="1" lang="et-EE" sz="2800" spc="-1" strike="noStrike">
                <a:solidFill>
                  <a:srgbClr val="000000"/>
                </a:solidFill>
                <a:latin typeface="Times New Roman"/>
                <a:ea typeface="Droid Sans Fallback"/>
              </a:rPr>
              <a:t>A</a:t>
            </a:r>
            <a:r>
              <a:rPr b="0" lang="et-EE" sz="28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i="1" lang="et-EE" sz="2800" spc="-1" strike="noStrike">
                <a:solidFill>
                  <a:srgbClr val="000000"/>
                </a:solidFill>
                <a:latin typeface="Times New Roman"/>
                <a:ea typeface="Droid Sans Fallback"/>
              </a:rPr>
              <a:t>B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Droid Sans Fallback"/>
              </a:rPr>
              <a:t>), (</a:t>
            </a:r>
            <a:r>
              <a:rPr b="0" i="1" lang="et-EE" sz="2800" spc="-1" strike="noStrike">
                <a:solidFill>
                  <a:srgbClr val="000000"/>
                </a:solidFill>
                <a:latin typeface="Times New Roman"/>
                <a:ea typeface="Droid Sans Fallback"/>
              </a:rPr>
              <a:t>A</a:t>
            </a:r>
            <a:r>
              <a:rPr b="0" lang="et-EE" sz="2800" spc="-1" strike="noStrike">
                <a:solidFill>
                  <a:srgbClr val="000000"/>
                </a:solidFill>
                <a:latin typeface="Symbol"/>
                <a:ea typeface="Symbol"/>
              </a:rPr>
              <a:t></a:t>
            </a:r>
            <a:r>
              <a:rPr b="0" i="1" lang="et-EE" sz="2800" spc="-1" strike="noStrike">
                <a:solidFill>
                  <a:srgbClr val="000000"/>
                </a:solidFill>
                <a:latin typeface="Times New Roman"/>
                <a:ea typeface="Droid Sans Fallback"/>
              </a:rPr>
              <a:t>B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Droid Sans Fallback"/>
              </a:rPr>
              <a:t>) ja (</a:t>
            </a:r>
            <a:r>
              <a:rPr b="0" i="1" lang="et-EE" sz="2800" spc="-1" strike="noStrike">
                <a:solidFill>
                  <a:srgbClr val="000000"/>
                </a:solidFill>
                <a:latin typeface="Times New Roman"/>
                <a:ea typeface="Droid Sans Fallback"/>
              </a:rPr>
              <a:t>A</a:t>
            </a:r>
            <a:r>
              <a:rPr b="0" lang="et-EE" sz="2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i="1" lang="et-EE" sz="2800" spc="-1" strike="noStrike">
                <a:solidFill>
                  <a:srgbClr val="000000"/>
                </a:solidFill>
                <a:latin typeface="Times New Roman"/>
                <a:ea typeface="Droid Sans Fallback"/>
              </a:rPr>
              <a:t>B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Droid Sans Fallback"/>
              </a:rPr>
              <a:t>) on samuti valemid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Droid Sans Fallback"/>
              </a:rPr>
              <a:t>Muid lausearvutuse valemeid po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lemi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amvalem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n temas alamlausena esinev vale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ogilistel tehetel on fikseeritud prioriteedid, tänu millele on võimalik sulgude hulka valemites vähendada (kahanevas järjekorras)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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lge vähendada võimaldab ka assotsiatiivsusreegel, mis kehtib konju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tsiooni ja disjunktsiooni jaok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31T10:49:50Z</dcterms:created>
  <dc:creator>Tiina Zingel</dc:creator>
  <dc:description/>
  <dc:language>en-US</dc:language>
  <cp:lastModifiedBy>Tanel</cp:lastModifiedBy>
  <dcterms:modified xsi:type="dcterms:W3CDTF">2013-02-04T07:22:52Z</dcterms:modified>
  <cp:revision>21</cp:revision>
  <dc:subject/>
  <dc:title>Rakendusliku loogika süvakursus</dc:title>
</cp:coreProperties>
</file>